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3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84E-6E97-47DE-93AC-435E3F55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817-42E7-4DA6-8E59-9F0EF991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D69-DDD4-4145-9386-9674C4DE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D8D-2F5C-4D1E-83B8-210F5604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554-1740-4ED5-9C5D-9F39927E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0BE-299D-4321-AE11-2D1A09F4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24B-3768-4C57-8835-65A45954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325-967C-4FD6-8754-D655ADA4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CD6-AF62-4E2F-81DB-A785FD2B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9A7-1276-404B-80E1-BD0233EC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0FC-F3AD-4C78-9F7A-A7DD4E6C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B0A-4A4C-43FF-89E1-44AD16AA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CBDD36D6-6B2C-4F01-9AED-8138085FEBD3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jpe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econd Annual Review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8 January Board Meeet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,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“Away Party”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view, total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ib, Charles, Arpad, Diana, Ari, Paco, F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Review, total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small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: Hu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1-4: Char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1: Arp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2: P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A1: Char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: Yv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 away party is OK with the 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495144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3D3-770F-4BF2-AA2C-4B7B05128B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“Away Party”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143000"/>
          <a:ext cx="8229600" cy="4876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ReS Chair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1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p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p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R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von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rnal Scient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A1B-DA9A-4DD8-B2B0-BB37C12D3D9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oposed Activity Report Schedul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will be collected similar to las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partners will summarize their work by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leaders will summarize the partner 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Manager will accumulate/smooth all text into fin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308-0CD6-492D-B374-9C37CA1ADD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oposed Activity Report Schedul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</a:t>
            </a:r>
            <a:r>
              <a:rPr b="0" lang="pl-PL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Bitstream Vera Sans Mono"/>
              </a:rPr>
              <a:t>Su Mo Tu We Th Fr 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nuary           1  2  3  4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6  7  8  9 10 11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3 14 15 16 17 18 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20 21 22 23 24 25 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ebruary   27 28 29 30 31  1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3  4  5  6  7  8 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0 11 12 13 14 15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7 18 19 20 21 22 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March      24 25 26 27 28 29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2  3  4  5  6  7 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9 10 11 12 13 14 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6 17 18 19 20 21 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23 24 25 26 27 28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April      30 31  1  2  3  4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6  7  8  9 10 11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3 14 15 16 17 18 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20 21 22 23 24 25 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May        27 28 29 30  1  2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4  5  6  7  8  9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1 12 13 14 15 16 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8 19 20 21 22 23 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25 26 27 28 29 30 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</a:t>
            </a:r>
            <a:r>
              <a:rPr b="0" lang="pl-PL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Bitstream Vera Sans Mono"/>
              </a:rPr>
              <a:t>Su Mo Tu We Th Fr 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30 Jan: Board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4 Feb: Reminder w/r/t aud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8 Feb: Call for update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6 Mar: All text d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24 Mar: Draft text available to 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7 Apr: Last changes d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4 Apr: Document printed and sent to 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2 May: Planned week for Second Annual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1143000"/>
            <a:ext cx="0" cy="52578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76400" y="2190600"/>
            <a:ext cx="304920" cy="3049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857680"/>
            <a:ext cx="304560" cy="30456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300480"/>
            <a:ext cx="304560" cy="30456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3962520"/>
            <a:ext cx="304560" cy="30456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4390920"/>
            <a:ext cx="304560" cy="3049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5486400"/>
            <a:ext cx="1828800" cy="3049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4648320"/>
            <a:ext cx="304560" cy="30456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C2C-BB21-497B-AAA9-A793A2804300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Project Ex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467-FE62-4CBA-84AB-105FA47D626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oject Extension (1 of 2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deliverables have been following “the letter of the la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time would be useful to achieve “the spirit of the la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ing and slow project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time would also provide partners with the ability to spread spending or provide additional time for 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econd Annu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0485-63A3-4F5D-BE3D-59CBA2D84F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oject Timeline (current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804960"/>
          <a:ext cx="7772400" cy="55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04960"/>
                    <a:ext cx="7772400" cy="55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480000" y="4070520"/>
            <a:ext cx="2386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2008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2 Progress Report submit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2008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nual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9CA-B851-42F9-91C6-D3DA62A58F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23040" y="1143000"/>
            <a:ext cx="3422520" cy="4038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oject Extension (1 of 2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9528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deliverables have been following “the letter of the la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time would be useful to achieve “the spirit of the la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ing and slow project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time would also provide partners with the ability to spread spending or provide additional time for 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econd Annu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FD1-7E55-41B3-AF4E-FE9FED944E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dditional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6 month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end date: 1 Mar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end date: 1 Sep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++ Report due: 15 Oct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++ In person review: ~Nov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ten into DOW Ann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OK from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plans or consider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tension, longer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ideas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ject Extension (2 of 2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9A5-F9B8-47F2-A3DC-D9BC310EF9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Leaving the network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yun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: only one “s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267D-7CC9-400D-A84E-8E49C8C33F1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eriod 2 Repor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ly call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Report, second annual report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ajor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ation of achievements over the past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not-as-major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Extension (period 3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BD6-8312-4F02-A6B3-E7DA6464FB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86200" y="571500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666880" y="238932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3809880" y="2362320"/>
            <a:ext cx="836640" cy="404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4876920" y="2421000"/>
            <a:ext cx="888840" cy="287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6019920" y="241308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7802640" y="2133720"/>
            <a:ext cx="731880" cy="861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685800" y="3262320"/>
            <a:ext cx="849240" cy="587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1752480" y="3346560"/>
            <a:ext cx="2246400" cy="590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4338720" y="309888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tkk-ctv-eng" descr=""/>
          <p:cNvPicPr/>
          <p:nvPr/>
        </p:nvPicPr>
        <p:blipFill>
          <a:blip r:embed="rId12"/>
          <a:stretch/>
        </p:blipFill>
        <p:spPr>
          <a:xfrm>
            <a:off x="5257800" y="327168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3"/>
          <a:stretch/>
        </p:blipFill>
        <p:spPr>
          <a:xfrm>
            <a:off x="7767720" y="32479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4"/>
          <a:stretch/>
        </p:blipFill>
        <p:spPr>
          <a:xfrm>
            <a:off x="587520" y="431784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5"/>
          <a:stretch/>
        </p:blipFill>
        <p:spPr>
          <a:xfrm>
            <a:off x="1882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6"/>
          <a:stretch/>
        </p:blipFill>
        <p:spPr>
          <a:xfrm>
            <a:off x="3025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7"/>
          <a:stretch/>
        </p:blipFill>
        <p:spPr>
          <a:xfrm>
            <a:off x="4241880" y="438948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8"/>
          <a:stretch/>
        </p:blipFill>
        <p:spPr>
          <a:xfrm>
            <a:off x="5235480" y="454644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9"/>
          <a:stretch/>
        </p:blipFill>
        <p:spPr>
          <a:xfrm>
            <a:off x="6835680" y="4611600"/>
            <a:ext cx="1698840" cy="327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0"/>
          <a:stretch/>
        </p:blipFill>
        <p:spPr>
          <a:xfrm>
            <a:off x="4038480" y="1219320"/>
            <a:ext cx="1067040" cy="711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rtner Logo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F10-5180-41C5-BCF8-52D18CD5A0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cond Annual Review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 will be the same as the first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day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EC offices in Bru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d for the week of 12 May.  Prob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 15 or Fri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1B31-85B8-4047-9481-5522B8B6E8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Planning for next Annual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“There be dragon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835-B9D9-4EC7-A720-325519A3761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cond Annual Review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3760" y="1142640"/>
            <a:ext cx="33526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 will be the same as the first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day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EC offices in Bru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d for the week of 12 May.  Prob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 15 or Fri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967-2AAD-46D3-8E54-1F08431C2C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xternal Reviewer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ers from yea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 Keller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bin A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or Cast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altern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ncan Law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nhard Hofmann-Wellenh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ing the same reviewers as the first year is seen to be a benefit.  However, there is a chance that one of the original reviewers can not participat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anyone know either of the altern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D18-106A-4C46-860B-FDB7A9EDC8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xternal Reviewer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ers from yea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 Keller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bin A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or Cast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altern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ncan Law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nhard Hofmann-Wellenh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ing the same reviewers as the first year is seen to be a benefit.  However, there is a chance that one of the original reviewers can not participat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anyone know either of the altern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038480" y="1076400"/>
            <a:ext cx="47214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0D3-1FA7-4459-9DC4-1C5FE46557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“Away Party”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: Hu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1-4: Char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1: Arp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2: P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A1: Char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: 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r: 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cientist: 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small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: Hu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1-4: Char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1: Arp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2: P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A1: Char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: Yv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E0F6-3687-4792-829F-6AEE667DE348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eam Logistic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 away party is OK with the 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 3 re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the makeup be closer to period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A36-9C13-41BC-901C-D7E0E278E7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cyun</cp:lastModifiedBy>
  <dcterms:modified xsi:type="dcterms:W3CDTF">2008-01-28T20:49:49Z</dcterms:modified>
  <cp:revision>41</cp:revision>
  <dc:subject/>
  <dc:title>Slide 1</dc:title>
</cp:coreProperties>
</file>